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90A-AB73-4F3B-9FCD-B0E8E566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5D8-7682-4A10-AE9B-9DFF044A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EF6-9A96-49AB-A817-D4E43D34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2CC-9C98-4F7B-897F-D4829F38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D7B5-5787-4A1C-B685-BB97597E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6305-C2EB-4A4A-A1CC-6C0DAAFB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093A-9E91-4E02-95D4-4CFE427B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C41C-F1FF-4D40-940A-BF24B379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C607-A0F9-41E1-9414-E6EE4001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9C8A-B4F5-4CE3-A54E-FD6C8A74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E1B7-D3AC-4B59-AFF4-90C24A85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296-2FA0-4840-A2F5-75BDA8AE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9644-49E0-41EA-81E0-A27EEFD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3EC5-96F8-43A3-B17D-1F7F5E4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2378-6196-4FEF-9243-7D9FBA1E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9486-8E1B-493E-ADFA-EDEE271E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911D-9D79-4C27-975C-13296197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19D-4C36-426D-80EC-758C94AD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F79-CEA5-4182-A686-4BD69E88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3B5-DD88-466E-B238-3846B8F3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A28-5AC4-40F3-8623-2C9A4E5B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260-0998-4DB3-8C6C-D47B6A25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FC6-D487-47FC-8440-DDBC966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28A-4F05-4308-955E-62F1E61B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BAF4-B548-43BF-A9B3-B91E699055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30C0-AD04-49CB-A11A-0B8CDDA1F5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-90720"/>
            <a:ext cx="7848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e4a8"/>
                </a:solidFill>
                <a:latin typeface="Tahoma"/>
              </a:rPr>
              <a:t>Me llamo __________       Clase 801</a:t>
            </a:r>
            <a:br>
              <a:rPr sz="3600"/>
            </a:br>
            <a:r>
              <a:rPr b="0" lang="en-US" sz="3600" spc="-1" strike="noStrike">
                <a:solidFill>
                  <a:srgbClr val="00e4a8"/>
                </a:solidFill>
                <a:latin typeface="Tahoma"/>
              </a:rPr>
              <a:t>La fecha es el 2 de junio del 2016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Propósito # 84 :</a:t>
            </a:r>
            <a:r>
              <a:rPr b="0" lang="es-ES_tradnl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¿Conoces un país extranjer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7030a0"/>
                </a:solidFill>
                <a:latin typeface="Tahoma"/>
                <a:ea typeface="Tahoma"/>
              </a:rPr>
              <a:t>L.O: to learn the form and use of the verb “Sabe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Actividad Inicial:  </a:t>
            </a:r>
            <a:r>
              <a:rPr b="1" lang="es-ES_tradnl" sz="2800" spc="-1" strike="noStrike">
                <a:solidFill>
                  <a:srgbClr val="00b050"/>
                </a:solidFill>
                <a:latin typeface="Tahoma"/>
                <a:ea typeface="Tahoma"/>
              </a:rPr>
              <a:t>re-TOMAR QUIZ 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In the following sentences, with SER or ES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Yo _______ un alumno en TR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Tú _______ en la clase de españ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Ella ______ inteligente y se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Nosotros _________ atlét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¿Ustedes __________ bi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What does SER &amp; ESTAR me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What is the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Saber y Conocer en el present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ling what and whom you know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bs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AB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CONOC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oth me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kn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both have an irregular YO form in the present te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2514600" y="2438280"/>
            <a:ext cx="855720" cy="854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333399"/>
                </a:solidFill>
                <a:latin typeface="Tahoma"/>
              </a:rPr>
              <a:t>Sabe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onju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90920" y="2514600"/>
            <a:ext cx="15238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é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705720" y="2573280"/>
            <a:ext cx="243828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m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28600" y="5002200"/>
            <a:ext cx="3695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rregular in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2057400" y="3260880"/>
            <a:ext cx="6094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800" y="2514600"/>
            <a:ext cx="251712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Y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Él ella ud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039200" y="2589120"/>
            <a:ext cx="268776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Nosotr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Ellos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Ellas Ud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676520" y="3100320"/>
            <a:ext cx="3429000" cy="12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391440" y="5257800"/>
            <a:ext cx="2676240" cy="1495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609480" y="0"/>
            <a:ext cx="784872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1" lang="en-US" sz="39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know a fact, to have information about somet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143000" y="1981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m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e Rodolfo y Luisa son estudiantes universit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76320" y="42670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e día es el viaje a Puerto Ric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981080" y="548640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número de teléfono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men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5524560" y="3691080"/>
            <a:ext cx="2324160" cy="1643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MC900236566[1]"/>
          <p:cNvPicPr/>
          <p:nvPr/>
        </p:nvPicPr>
        <p:blipFill>
          <a:blip r:embed="rId4"/>
          <a:stretch/>
        </p:blipFill>
        <p:spPr>
          <a:xfrm flipH="1">
            <a:off x="7819920" y="3435480"/>
            <a:ext cx="1324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0:52:38Z</dcterms:created>
  <dc:creator>Helen Zumaeta</dc:creator>
  <dc:description/>
  <dc:language>en-US</dc:language>
  <cp:lastModifiedBy>Helen Zumaeta</cp:lastModifiedBy>
  <cp:lastPrinted>2016-06-01T19:22:11Z</cp:lastPrinted>
  <dcterms:modified xsi:type="dcterms:W3CDTF">2016-06-02T18:39:04Z</dcterms:modified>
  <cp:revision>21</cp:revision>
  <dc:subject/>
  <dc:title>Me llamo __________          Clase 7IM La fecha es el 9 de noviembre del 2011</dc:title>
</cp:coreProperties>
</file>